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B4DE-7E69-446F-A894-A4FD36AE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D10A-38FB-4EDF-AA4F-A6942BBF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6A5-7E24-49FE-945A-FB908117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5930-1B98-4F19-83C8-B611C1EA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DA05-314C-4D1A-9D29-E16683F8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5D49-7F54-4652-8119-DF10413D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7EBC-D38E-4867-8AB0-8952E1AD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BD0A-BD66-4A1E-A256-580F923E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1770-DF05-41AD-A6BD-54215F3A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8105-28C8-4669-B97C-55BB5A36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57B0-F28E-4932-BE77-0641D64C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1CC-F4D2-4FEB-B140-490F3B1E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2120-79C8-4728-8CE2-593F54A8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F7B0-3682-4E82-B38E-22065A90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9A9B-157E-4866-A33E-58184E03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40D0-4483-4B23-BA78-8F108438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4964-B28E-4D73-8DD6-ECC630A1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A2D43-8905-4E1A-B1B1-04A78D96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A6246-7BB9-44A2-AC2A-DDA60736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9A82E-5CFF-40B0-946D-D2717B40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A4677-038B-41B7-864D-2CAE4FDD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27CDE-9D65-402F-8A29-A73F8853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46D-D682-4477-A63A-5F1DEE1E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A40DB-8107-4151-9CB4-04C56AC7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8AA8D-88F9-4217-9827-FC150FC9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B96C0-CE45-4325-A669-62684E34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A94C9-0F1B-4E1F-B5BA-5A7DA660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14D85-808B-44E7-A2D4-335B423B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16B5D-99EE-4459-BA2A-9FB2C416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80D0D-8F42-453B-9535-2E6AC357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17BB1-BB05-4FA5-9FF1-6DB0A694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61FC0-4D8D-45CA-96FD-22F42B61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84BAB-1FB4-4366-BAD5-5997028A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8FEA-7D54-4E91-89C2-46E6E9FE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A0E3A-1D12-40F5-8E58-3957973F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98980-8460-4F6A-9260-99A03A10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3796A-C53B-40FC-B79D-5EDF1AB2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84A78-282D-463D-9F4A-6BFC66AE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650CC-1F93-41EB-86D5-9FFC30FA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60E05-3B6F-4147-BF19-54F7AC2E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A94DF-2F6E-4F88-8257-E8B4800D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006F6-DD7E-4D0E-A480-07031A68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15F4F-F5D1-4F2B-A757-8F29BA55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AFC-A978-41E5-B50F-5DCE0D5C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D46E-9C42-4D90-AC47-080DDB0D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B8FD-ED07-4552-9FEF-C8036018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D7FB-0A2F-419F-8212-E30CD3DC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D294-1158-4679-8D22-F5140D6E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2962-487A-4424-9F81-F0D1E93EA90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0F91-DAC6-4300-839C-150CA807B35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74F4-39A7-4B1E-B1C7-FCBBD444C11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7C68-4BF8-469B-AC0C-5C1CD26865B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3048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6840" y="38862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What to Include in a Resume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Reference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if you need to fill spac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vailable Upon Requ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3 references &amp; contact information typed on separate paper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a cover letter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ersonal communication to a prospective employ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raws attention to qualification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emonstrates written communication skill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What to Include in a Cover Letter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Paragraph 1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Job you are interested 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re you learned about the job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Paragraph 2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ate why you are qualified for posi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fer to experience/skills on resum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Paragraph 3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ovide contact inform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ank person for considering yo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What is a resume?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a summary of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kill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abilitie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accomplishment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a quick advertisement of who you ar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a "snapshot" of you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 resume should alway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e truthful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e neat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e proofread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 resume should NO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Have long sentence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Use the word “I”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Have pictures or graphic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e longer than 1 pag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Have typos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What to Include in a Resum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Heading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ddres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hone #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rofessional Emai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What to Include in a Resume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ate the job type or industr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One Phras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Example:  To obtain a part time position in the food service industry within the New Haven area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What to Include in a Resume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Educa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ill Regional Career High Schoo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ew Haven, C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nticipated Graduation Date June 20xx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oncentration in Business/Health Scienc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ist Honors/AP courses and GPA if over 3.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What to Include in a Resume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Work/Volunteer History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osition Titl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Name of Organiza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cation and Dat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pecific responsibiliti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What to Include in a Resume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Extracurricular Activities/Honor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pecific Name and Dat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eadership Rol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23:35:59Z</dcterms:created>
  <dc:creator>lb</dc:creator>
  <dc:description/>
  <dc:language>en-US</dc:language>
  <cp:lastModifiedBy>Phil Schneider</cp:lastModifiedBy>
  <dcterms:modified xsi:type="dcterms:W3CDTF">2015-11-29T23:20:05Z</dcterms:modified>
  <cp:revision>11</cp:revision>
  <dc:subject/>
  <dc:title>Resumés and Cover Letters</dc:title>
</cp:coreProperties>
</file>